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6858000" cy="9144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ED8E-BB91-4134-87BC-41613E7E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6BA8-5039-43B3-8DE8-DD542DF6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AB4C-9202-44F4-A406-A6F17C62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4272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42964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451656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3921-149C-4158-A9AF-978D7E5D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7A08A-BDB8-4440-AB31-205A4678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841EC-74F3-430B-9D92-5425CA2F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88030-8483-4A66-AE98-0576D658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D22B0-4705-4FAD-97F0-8E34DACB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D9E5F-A8DF-4C2F-881D-2A194D12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DA6D8-9A00-4B39-BF88-1D5D3F61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84290-D792-4354-AEA1-F7A0C5B9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4EE0-AF00-4514-8F5E-D18DAC30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C56F3-D7AB-47BF-8ACA-375FEC35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B299E-9311-4581-A961-249A6D03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A9116-1646-49AC-A342-0B97D0DD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5BA78-C569-4CC1-96B1-00E6EC6E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4272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242964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451656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AE309-44B1-400C-8B56-090A6823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4958-3E2A-4D64-A99E-F6929BF8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7431-05C7-430F-8953-25E9E300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CAB6-92EB-4597-BC95-86187DC1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2140-CC46-43EA-AF52-0835C3C1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2871-6C15-4FD6-ACA3-AD30B71A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BBF6-A861-41F2-94B3-163ACBC9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4F28-F1F7-4D50-A1A0-DC63DC39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6858000" cy="9143640"/>
            <a:chOff x="0" y="0"/>
            <a:chExt cx="6858000" cy="9143640"/>
          </a:xfrm>
        </p:grpSpPr>
        <p:sp>
          <p:nvSpPr>
            <p:cNvPr id="1" name=""/>
            <p:cNvSpPr/>
            <p:nvPr/>
          </p:nvSpPr>
          <p:spPr>
            <a:xfrm>
              <a:off x="0" y="6502320"/>
              <a:ext cx="6858000" cy="2641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6858000" cy="6502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4686480" y="8350200"/>
            <a:ext cx="2171520" cy="8128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8026560"/>
            <a:ext cx="5886360" cy="1142280"/>
            <a:chOff x="0" y="8026560"/>
            <a:chExt cx="5886360" cy="1142280"/>
          </a:xfrm>
        </p:grpSpPr>
        <p:sp>
          <p:nvSpPr>
            <p:cNvPr id="5" name=""/>
            <p:cNvSpPr/>
            <p:nvPr/>
          </p:nvSpPr>
          <p:spPr>
            <a:xfrm>
              <a:off x="1771560" y="8026560"/>
              <a:ext cx="3857400" cy="113400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2959920" y="8026560"/>
              <a:ext cx="2926440" cy="1142280"/>
              <a:chOff x="2959920" y="8026560"/>
              <a:chExt cx="2926440" cy="1142280"/>
            </a:xfrm>
          </p:grpSpPr>
          <p:sp>
            <p:nvSpPr>
              <p:cNvPr id="7" name=""/>
              <p:cNvSpPr/>
              <p:nvPr/>
            </p:nvSpPr>
            <p:spPr>
              <a:xfrm>
                <a:off x="4700520" y="8041320"/>
                <a:ext cx="1185840" cy="112752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187080" y="8026560"/>
                <a:ext cx="221400" cy="83556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607200" y="8240040"/>
                <a:ext cx="450000" cy="57312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319280" y="8182800"/>
                <a:ext cx="184680" cy="1562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59920" y="8168040"/>
                <a:ext cx="49680" cy="17100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8026560"/>
              <a:ext cx="4733640" cy="113220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469800" y="8028000"/>
            <a:ext cx="4263840" cy="1133280"/>
            <a:chOff x="469800" y="8028000"/>
            <a:chExt cx="4263840" cy="1133280"/>
          </a:xfrm>
        </p:grpSpPr>
        <p:sp>
          <p:nvSpPr>
            <p:cNvPr id="14" name=""/>
            <p:cNvSpPr/>
            <p:nvPr/>
          </p:nvSpPr>
          <p:spPr>
            <a:xfrm>
              <a:off x="1423440" y="8028000"/>
              <a:ext cx="434520" cy="6163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13000" y="8104320"/>
              <a:ext cx="2420640" cy="10569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78360" y="8091360"/>
              <a:ext cx="84240" cy="1292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17360" y="8131680"/>
              <a:ext cx="191520" cy="34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39880" y="8157240"/>
              <a:ext cx="70200" cy="1292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69800" y="8065800"/>
              <a:ext cx="291600" cy="438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9A7A-B789-4A9B-AB1F-D0B8FED955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4680" y="27000"/>
            <a:ext cx="6858000" cy="9143640"/>
            <a:chOff x="-4680" y="27000"/>
            <a:chExt cx="6858000" cy="9143640"/>
          </a:xfrm>
        </p:grpSpPr>
        <p:sp>
          <p:nvSpPr>
            <p:cNvPr id="62" name=""/>
            <p:cNvSpPr/>
            <p:nvPr/>
          </p:nvSpPr>
          <p:spPr>
            <a:xfrm>
              <a:off x="-4680" y="6529320"/>
              <a:ext cx="6858000" cy="2641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4680" y="27000"/>
              <a:ext cx="6858000" cy="6502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681440" y="8358120"/>
            <a:ext cx="2171880" cy="8128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8045280"/>
            <a:ext cx="5884200" cy="1134720"/>
            <a:chOff x="-1440" y="8045280"/>
            <a:chExt cx="5884200" cy="1134720"/>
          </a:xfrm>
        </p:grpSpPr>
        <p:sp>
          <p:nvSpPr>
            <p:cNvPr id="66" name=""/>
            <p:cNvSpPr/>
            <p:nvPr/>
          </p:nvSpPr>
          <p:spPr>
            <a:xfrm>
              <a:off x="1770120" y="8045280"/>
              <a:ext cx="3857760" cy="113472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958840" y="8045280"/>
              <a:ext cx="2923920" cy="1134360"/>
              <a:chOff x="2958840" y="8045280"/>
              <a:chExt cx="2923920" cy="1134360"/>
            </a:xfrm>
          </p:grpSpPr>
          <p:sp>
            <p:nvSpPr>
              <p:cNvPr id="68" name=""/>
              <p:cNvSpPr/>
              <p:nvPr/>
            </p:nvSpPr>
            <p:spPr>
              <a:xfrm>
                <a:off x="4699440" y="8060040"/>
                <a:ext cx="1183320" cy="111960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186000" y="8045280"/>
                <a:ext cx="221400" cy="8362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606120" y="8258760"/>
                <a:ext cx="450000" cy="57348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318200" y="8201520"/>
                <a:ext cx="184680" cy="1562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958840" y="8186760"/>
                <a:ext cx="49680" cy="17136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8045280"/>
              <a:ext cx="4734000" cy="113292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69800" y="8028000"/>
            <a:ext cx="4263840" cy="1133280"/>
            <a:chOff x="469800" y="8028000"/>
            <a:chExt cx="4263840" cy="1133280"/>
          </a:xfrm>
        </p:grpSpPr>
        <p:sp>
          <p:nvSpPr>
            <p:cNvPr id="75" name=""/>
            <p:cNvSpPr/>
            <p:nvPr/>
          </p:nvSpPr>
          <p:spPr>
            <a:xfrm>
              <a:off x="1423440" y="8028000"/>
              <a:ext cx="434520" cy="6163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13000" y="8104320"/>
              <a:ext cx="2420640" cy="10569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8360" y="8091360"/>
              <a:ext cx="84240" cy="1292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17360" y="8131680"/>
              <a:ext cx="191520" cy="34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9880" y="8157240"/>
              <a:ext cx="70200" cy="1292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9800" y="8065800"/>
              <a:ext cx="291600" cy="438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FD4C-1ECE-4C4D-A80E-61636BF85B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rot="19089600">
            <a:off x="1067400" y="2057040"/>
            <a:ext cx="247896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Baseb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atter u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 of us cheer ‘cause the score is tie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ven to sev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xtra inning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ases loade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nd we hit a home ru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ong gone, over the fen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osing is not for us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Alexander Belanger</a:t>
            </a: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1687400">
            <a:off x="2058480" y="6247440"/>
            <a:ext cx="24775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Raindrop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ain is har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ain is like brick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t is like millions of letters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rashing down on yo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t is like pelts that come from outer spa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ike puddle laying s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ain has many different typ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ut as long as it goes pit pa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t will still be tiny raindrop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ouring on yo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exander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21111600">
            <a:off x="1829880" y="4266720"/>
            <a:ext cx="223956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Diamond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parkling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littering diamonds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hese valuable pieces of jewel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hey are very hard to break in half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hey look like tinted gla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hey are preciou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iamond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Alexander Belang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97180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etry Book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66320" y="54097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Alexander Bela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014200">
            <a:off x="3963240" y="304560"/>
            <a:ext cx="19713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The most embarrassing th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most embarrassing th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as when I had to do 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imple, easy poe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hen I wrote my poe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ust quick, not slow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o go outside for rec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nd I ripped my pants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ming down a slid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nd when we went insid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y teacher asked m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o share my poe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front of the cla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 was to embarrasse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o tell that I couldn’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ause I had ripped my pan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o I went up in front of my cla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nd did the dreading th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veryone was laugh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o they couldn’t restore ord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o I got sent home early!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04920" y="1616040"/>
          <a:ext cx="152280" cy="3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16040"/>
                    <a:ext cx="15228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42720" y="380880"/>
            <a:ext cx="6172200" cy="77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ase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tter 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of us cheer ‘cause the score is t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 to se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 inn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es loa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we hit a home r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ng gone, over the f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ing is not for u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lexander Belanger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6172200" cy="78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 most embarrassing 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st embarrassing 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when I had to do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, easy po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I wrote my po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st quick, not slow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go outside for re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 ripped my pant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ing down a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when we went in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teacher asked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hare my po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front of the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to embarras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ell that I couldn’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 I had ripped my 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I went up in front of my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did the dreading 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one was laug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st embarrassing 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42720" y="304560"/>
            <a:ext cx="6172200" cy="78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iam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arkling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ittering diamon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se valuable pieces of jewel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y are very hard to break in ha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y look like tinted g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y are prec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m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lexander Bela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42720" y="228240"/>
            <a:ext cx="6172200" cy="78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indr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n is h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n is like bri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like millions of letter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ashing down on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like pelts that come from outer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puddle laying s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n has many different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as long as it goes pit p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ill still be tiny raindr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ring on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er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42720" y="304560"/>
            <a:ext cx="6172200" cy="78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sper whis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es the wind, tickling the le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shhhh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ny leaves fall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iioossh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tling the leaves more hard 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o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orm is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lat pat pat splat pat p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ain is hitting the ground h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l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ain is falling into pudd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ly forming on the 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42720" y="380880"/>
            <a:ext cx="6172200" cy="77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igns of Sp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ay leaves twirl in the ai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ol, fresh air refreshes m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ms 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grass grows up through the brown gr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n warms 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the breeze cools 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wers are blosso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thing is new and pure and fre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thing is g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es look is chan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s of spring surround 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42720" y="380880"/>
            <a:ext cx="6172200" cy="77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m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ing a surfing vide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day summer seems closer and clo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a lot of good memories in sum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fers in Central America bring back memories of the oc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ky reminds me of sunny day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after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and brings back memories of the b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just the sport of surfing brings back the memory of g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ing people having fu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memories of the best things in sum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ing f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es bring back memories of walking in the wood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eling free out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so many memori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ood surfing video can b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18:32:58Z</dcterms:created>
  <dc:creator>abelanger</dc:creator>
  <dc:description/>
  <dc:language>en-US</dc:language>
  <cp:lastModifiedBy>abelanger</cp:lastModifiedBy>
  <dcterms:modified xsi:type="dcterms:W3CDTF">2008-05-27T15:52:46Z</dcterms:modified>
  <cp:revision>3</cp:revision>
  <dc:subject/>
  <dc:title>Poetry Book</dc:title>
</cp:coreProperties>
</file>